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C5783-B4D9-4E83-877B-6F52FC28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C0F7D-01F1-4F4E-A72A-E97F961E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60250-057D-41CD-AFF1-337F6181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E2257-A711-43AA-8007-CFDF4CB1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1081-9A30-42BB-AB97-23C74918C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A30E-0D0A-4855-AD17-DC2CEC36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4B91-1789-4DCD-9CEB-2B7EA91E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BFBA-9D69-4A10-BACB-7E7213EE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9FAE-6CE7-465F-85F5-265A2EA7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BE9B-2C59-4078-84A0-42E64E77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EEA3-2AD2-4288-B526-CBCE0C89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26E41-1543-4049-A690-830412CB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75F0-DF27-4B35-9F30-71B3CC9E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8D14-D2A5-47F3-AF62-6A4BBA9C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5171-F2BB-4A28-944F-70D539C4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7CC6-C255-420F-B458-E14EA02B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3B74-7878-4D5D-9B04-F2703EB5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A52BE-F270-4456-8635-4B94F59C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A7D3F-4E67-45E2-B808-91ED49B0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46DB6-02F3-4729-B57E-186A26A1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D8961-1142-4F91-A90B-E6C17CD7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C146E-C17B-4601-8A7D-7013D2E4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342D7-729D-43D9-BD82-A1794348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474C4-8B3C-45C5-B1F0-AB5BE9BD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3EF5-6D6F-42E1-910E-048416AD6F9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CF6A-9F97-44E8-99FE-DA0FD6D39D5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14408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73 (689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ога затръби тръбата и Господ ни събере, ще се видим на кристалното море; на небесната вечеря ще ни заведе сам Той; там ще бъдем ние във вечен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14156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аква дивна срещ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вси праведници и светии там! Каква славна срещ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огато ще срещнем тях в небесний хра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252360" y="114228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Господ наш когато каже: „Няма никак време веч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спасените от близо и далеч ангелите от небето въведат един след друг, ще забравим всички трудности от тук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252360" y="114156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аква дивна срещ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вси праведници и светии там! Каква славна срещ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огато ще срещнем тях в небесний хра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4472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ам ще бъдем при Исуса с златни арфи във ръце, ще Го гледаме със радост във лице! На Моисея песента, още и тази на Христа ние ще пеем и ще свирим в вечността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114156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аква дивна срещ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вси праведници и светии там! Каква славна срещ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огато ще срещнем тях в небесний хра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24T09:05:40Z</dcterms:modified>
  <cp:revision>105</cp:revision>
  <dc:subject/>
  <dc:title>Slide 1</dc:title>
</cp:coreProperties>
</file>